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5440-C266-4996-B04B-B5D5D30A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D4AF-CF38-4B66-A695-D964BE19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FA1D42-4944-4E55-8E5C-8EC589DD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11FDD2-8354-4B79-9BFD-B010A1B7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2632E-2051-43CF-8B41-A9249073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C8F877-47ED-42B4-9876-5088B8D2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B432A-8921-479A-AC50-3FCC7CEF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5E142-3A6B-48E2-8F3C-9E572359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CBCD8-7D0F-4E1F-8394-68634983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81B3D-CEF7-4282-88B1-D37344704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AE44A-3A91-41A7-92FE-617CA30A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9656A-902F-4324-8C1A-530C75E51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08FB-5D19-419F-BD90-259E0ACB6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5E951-F6D7-4091-B330-41B6A25A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18C59E-122F-4DB4-9AF0-1BA8F44A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4D583-AE32-4206-8D3C-609BCF11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C38F3-B825-4C8C-A7B4-54AF797E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1ED4F-AE36-4C46-A08C-58432599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327665-EDCE-4609-88BC-5C38E81E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44C984-5DD7-472E-92B3-6F3033AE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C7C05A-08B6-4211-9008-9FF9B21C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947B08-459D-4530-B6B4-C1671169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BEC55-84D4-457F-A8E6-DAFADC5E0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8B6E-8A6E-4878-89C6-B37A04765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F0FCF6-5880-43EF-816E-99D0DE20B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7B44F-B7D8-4B77-BBD8-B7FA15317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7658E-9E5B-416E-86D0-ABCFC388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9E567-B1B0-426E-A8A5-B5021C35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CA107-B57C-4AF1-9A0A-8078CA46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29E22-7881-4016-A4D8-B9D26B24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16D64-6279-4F00-A78D-0825BE2B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B2AD8-5917-4ABD-9259-0E83A1ED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122DB-E981-43F8-A8B0-3F221BBE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B3FDD-241B-47F5-B7D3-9EAE8343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FA7F-6617-4B66-94E6-6762CBF2E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34CEE-C325-4A7F-BFAB-17524708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DBCAE-2FA8-41B9-B632-CD69BF37A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C37E5-65A6-4082-ADE0-CEDBDCD3A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F4DA22-FA3D-4410-AE82-CACD2A576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41E3D-E2ED-4791-9864-98588559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76A28D-11F1-49E3-ADAC-54B5CFD9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DC92FD-1A7A-429A-AAB6-0D8FE6F3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0CE395-B9BA-474D-BFF0-0EBEED37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837E51-C6A1-4C08-ADF2-9E4A4AA2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E6F25C-9695-4C4C-990C-4FCB3020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5538-A8BA-42FA-8CDD-9C73EFCE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64A06F-0AFA-4E58-93D9-3F103331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AC295F-8134-48DB-9513-1F58CEC4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5948B5-F61F-40DF-8134-B6A3CF1A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EB58B9-BF62-43CF-A548-B1BA07AB9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7ADA6B-7FCF-4A73-AEC7-438A8A963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D603-A2CF-4F5F-BE03-577927E5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C2C7-01FE-44E1-AA6B-30A7D02D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205B-AEEC-4243-9764-84E58240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81BE-F041-422E-B115-B79F8905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B607-9C19-4E13-8FDA-0B4267D2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76AD-8DE1-4470-B4A8-64A89DC7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F109-1665-47BC-9D37-79259703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C859-4522-406C-BD51-E4702614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658B-3AC1-4C4F-91BB-A520FC9C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8F4C-DE2C-473A-B03F-FFCB4200F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9AB8-04DB-478A-A998-0C70CEB2D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94E96-4C80-4FBD-B07D-45D4B0FA0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1667F-EAB1-45E5-82B5-5244F995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109D8-8F1C-4D87-97E7-2FCA15E2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21FDC-F307-46DF-B555-8AF6D7B8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BEA6A-A001-4826-B987-C76FE878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F356-93D8-40CE-B22C-80DA0D39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D6777-4941-406B-AC71-3060A55E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A521A-ADB3-4A92-AC2C-BD75E161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94E9E-BBC2-412D-9604-915176E4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AF040-CCC9-48F3-9CA8-6C3E7A6F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FEAC4-84E5-4F2B-AA2A-065FC8F2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13D07-C267-4841-956F-939A68757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5293C-4134-48D2-82E7-2FE1A7C90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B13F5-80AE-4121-85B5-2A6918BB0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1EAC7-AAF2-4F1B-8F40-77F07973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CDF6A-6C38-4FB0-9F14-2F92763F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ECAC-5A72-4420-8A46-CE5E08AA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EE775-CC5D-4AB1-97AA-C16B6072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EFD18-A5B5-493C-BC4E-BA2D93FC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D508B-9508-4F79-B2F5-76EE2C74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2EB23-A716-4AA3-AAE3-27AD2364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41CE2-0461-4F0F-8915-4496D7E4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07810-A637-4D4F-BBED-1EA2DE63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26EB3-AEA9-41EE-9E72-CE51D0A8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2FC13-B019-4160-A8A6-F810CB83E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A4D10-1F12-40E5-B5BF-E913E6407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76E1A-5BDA-4C95-AA78-587C0D3CE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CF3E-5E70-4A5E-887A-EA40AB58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E5D53-B964-4D2A-92B6-D13053A9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854E4-60FA-4328-8602-8A2ADB2A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C3092-508B-474F-8739-02A24D08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2B83E-60CB-4231-A1B0-1CBAAF51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B9DBD-5CF2-4C13-9A49-F964E207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2ED9B-1A96-47C2-8286-D7BC8601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0DB4D-9DFE-4133-87FC-99641E42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F0647-E224-4703-AC47-56F9AC4A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A4DAD-F45D-4500-A9C4-36CC9E1A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C176B-EEE4-4BF2-8BA8-D6E1BFB78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9CBC-95C7-4E87-BA44-071C9C34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16353-F3F7-4FA8-920E-18EA23A4F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6AA7A-A3FC-48BD-BDB9-01003B57D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81F37-2664-487F-9FEE-BAC6CCD3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A1D45-AD71-486F-B6A9-E9BA06B6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AB889-4C35-48A2-8227-57C1F70C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3A4E0-2F41-410F-A92F-863F3C67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153DC-F1EF-4E3C-9B04-BCCC7710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9D820-9D2F-4BCB-98BC-D773AAA9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76DCE-B8A1-4D0E-B956-E6BE5FD2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C20A8-0499-4512-990C-416B7455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F06C-E26C-43E3-99B7-0EE51BF7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CCE08-282A-44E4-BDDF-0C1F2B9F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DCC05-7430-4B07-9A13-B2E1735B5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0EC28-35F5-4C16-8C2B-B6A70602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CE70E-97E2-42C2-B466-F57FE77A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20657-1996-461F-86F3-AE19A49C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E357B-280E-4BB4-A47E-A671122D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43F31-9F8C-44BE-881E-4774AD70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25883-8DA8-471E-9D03-2F68CCBA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0ED25-EEF3-4107-901C-7E24E047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3C530-C104-4CBE-B05A-4125B12E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7735-6FB5-44B3-8089-4B134ED5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C603B-844E-40DB-A919-6359BB3A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C7715-D881-4CF4-AF5E-0EA48B4A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33366-B2EE-448A-AA80-B581D9FA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30ECC-B123-45E6-847D-9520D798A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8E576-D494-416F-BDBC-C54FC2308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69A50-1A35-4E62-B86B-F3182E12E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F500F-8B97-432C-8651-27748238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AC1FB-15A0-4B08-BF70-BEF5B410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F7006-7533-47B8-8EFB-2DADC0BB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3878B-5852-4C07-B90A-437C6E0E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6295-522B-4BB0-BCC4-C43D4772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05248-9761-433C-A51D-4FC3DD92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8DB4B-17EA-4188-A92A-58DDA32F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BBA6C-78A3-4686-A050-5B792AC9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66966-9292-4965-A70F-54B6D633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A177E-8D77-461D-BD35-D355AFE2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7568F-5362-4CC3-845C-CE01C7062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270F6-9F2D-4B4F-84C8-BE93C77F5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46A2D-1321-40C8-B40E-A087C273B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032AB-A751-45E7-B639-05D260F5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43C528-B2C1-4202-A2C2-36E954CA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E021-BF33-4D27-AB8F-0E4AF06B9BA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88C1-10F3-4C09-B11E-18D21F254AE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BB1E-7800-4AC0-9D64-A088A587D48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6178-02D7-4E7A-AB11-F22200123D6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5AD7-BBA5-4CC3-B56F-B06D9700F5D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5E96-95AC-4C9F-A787-47548CF61D1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42EF-61AE-4922-9177-FFC324835DF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FAE5-5782-4E3E-B15C-8B6784FFC3B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73BF-1459-403A-9F28-62A30D36F83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9BD3-75C3-4FDD-AB73-C5653853D40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B309-37BC-41EB-B18C-5807FFEB4E7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ED75-B87E-428B-AE19-5481D9F40E2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89 Príď, Duch svät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výšin k n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ď, Duch svät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výšin k 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čisť, posväť nás ty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vôľu, city ovlád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irkev svoju požehn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tor Ducha, stále ve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bav nás pýchy márnive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žeň noci hriechu ti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j, nech pravdy vzíde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ď a starostí tiaž sní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ierom naplň kýžený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ôsob slávnu premen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zdrav dušu zranen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ď, Duch Svätý, sám uč ná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šíriť radosť, lásky j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kúsiť už tu nám d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nám chystá večný raj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1-14T18:07:25Z</dcterms:modified>
  <cp:revision>14</cp:revision>
  <dc:subject/>
  <dc:title>Je veľký náš Pán, on slávy je Kráľ Nech do všetkých strán  spev vrúcnych znie chvál.</dc:title>
</cp:coreProperties>
</file>